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43A-07CB-462C-B321-D6E66DF2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EED-6340-478E-9305-D2392B4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E5E-E980-43EA-8216-2F75EB5A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E52-5645-4BBE-BC72-DC200A5C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4E1-9DDB-4FDD-B577-0C3418C1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CC6-BB45-4B1F-B8D7-FFE53957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48-F46A-4366-AA19-2E97FCAC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08C-E8B2-40CE-9DFD-C56A91F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09F-9887-484A-9485-FDAE0FF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AE3-1612-4E39-89B8-D4CF6B2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FC1-035E-45BC-A51F-BD45605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A9-758F-4C85-9831-F7B83EC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E499-3D76-413A-949E-62364D11C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0600" y="1981080"/>
            <a:ext cx="339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t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mp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8:30Z</dcterms:modified>
  <cp:revision>206</cp:revision>
  <dc:subject/>
  <dc:title>Slide 1</dc:title>
</cp:coreProperties>
</file>